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230B-2CEB-4FF6-BDF0-3D417F8E7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at there is a variation with time of day (left edge is 7pm) – assumption is that it varies slightly with network 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ment (not us) continues but modifications are slow to reach stable kernel (at least 2 point releases it se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achieve good throughput – ADD TRANSATLANTIC TPUT GRAPH - if we try hard to install new releases and tune VM sett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ad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cks graphs from PFLDNET (indiv &amp; tcpdel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ment (not us) continues but modifications are slow to reach stable kernel (at least 2 point releases it se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achieve good throughput – ADD TRANSATLANTIC TPUT GRAPH - if we try hard to install new releases and tune VM sett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ment (not us) continues but modifications are slow to reach stable kernel (at least 2 point releases it se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achieve good throughput – ADD TRANSATLANTIC TPUT GRAPH - if we try hard to install new releases and tune VM sett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ment (not us) continues but modifications are slow to reach stable kernel (at least 2 point releases it se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achieve good throughput – ADD TRANSATLANTIC TPUT GRAPH - if we try hard to install new releases and tune VM sett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E594-27D0-4826-A8BC-80C85A5D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C0A3-E709-483B-8CE7-F128BB99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49DD-089C-438B-B6EF-917C118E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7438-839C-40A7-A263-62C6B599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6E5E-D0DF-44C6-B090-6A1CE53F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411C-D7EA-4A24-A44B-64A73D6F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2D30-A9DD-48F2-A8CB-4F35CFB7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CF26-373E-43A5-B5FE-DD9B1CA2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835B-0800-4D55-B12E-12021899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ED6F-85A9-4075-A053-F92F8D60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195E-C9CA-40A9-A1B8-2EFB2AC7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9A4F-793C-4A4C-AF7C-1040D22B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238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91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822E513B-B08B-4F3F-BF37-0F24AE41481B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ep.man.ac.uk/PFLDnet2008/aboutManchester.php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Progress on EXPReS at JBO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ReS Board Meeting, Utrecht, Jan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lph Spencer and the JBO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3200" cy="2544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638680" y="0"/>
            <a:ext cx="350532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6920" cy="1947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71640" y="1101600"/>
            <a:ext cx="5832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4720" y="1844640"/>
            <a:ext cx="648000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ulticast reduces load on networks when sending to multiple 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d009d"/>
                </a:solidFill>
                <a:latin typeface="Arial"/>
              </a:rPr>
              <a:t>Test of multicast 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lticast UDP stream over JANET academic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0 2.2Mbps multicast IPTV streams originating from London, 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d-hosts on Manchester University campus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Cisco network hardware, 100Mbps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ment of inter-packet arrival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 from arrival of packet ‘n’ to arrival of packet ‘n+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cted ~6ms for one 2.2Mbps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ess with iBOBs at Jodre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049E-F404-4CB2-ACC4-C2BD870E874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6920" cy="1947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06640" y="1792440"/>
            <a:ext cx="201600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tency spikes of up to 0.5s at intervals of 6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expected behaviour may limit the application of this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lation between streams and between PCs shows a common source of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228840" y="1330200"/>
            <a:ext cx="5608800" cy="4662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71640" y="1101600"/>
            <a:ext cx="5832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6d009d"/>
                </a:solidFill>
                <a:latin typeface="Arial"/>
              </a:rPr>
              <a:t>Multica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ess with iBOBs at Jodre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C7DF-42BD-4A8A-BC7F-2A304F9A887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6920" cy="1947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71640" y="1101600"/>
            <a:ext cx="5832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4720" y="2178000"/>
            <a:ext cx="6480000" cy="19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d009d"/>
                </a:solidFill>
                <a:latin typeface="Arial"/>
              </a:rPr>
              <a:t>Test of multicast topology -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lticast traffic routing is not as efficient as unicast on this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tential concerns for othe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es not look suitable for eVL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8320" y="468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ess with iBOBs at Jodre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E499-2280-4220-8125-13BA8288041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6920" cy="1947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71640" y="1101600"/>
            <a:ext cx="5832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DCC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4720" y="1844640"/>
            <a:ext cx="6480000" cy="50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d009d"/>
                </a:solidFill>
                <a:latin typeface="Arial"/>
              </a:rPr>
              <a:t>Stable ker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ire tuning of virtual memory settings to prevent kernel pa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d009d"/>
                </a:solidFill>
                <a:latin typeface="Arial"/>
              </a:rPr>
              <a:t>Experimental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sions of late November 2007 address some memory and performance issues – yet to be tested on our syste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CID4 i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d009d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CID2 can attain 1GE line-rat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not a turn-key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d009d"/>
                </a:solidFill>
                <a:latin typeface="Arial"/>
              </a:rPr>
              <a:t>Futur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 2.6.24 kernel and recent DCCP git tree – not mature enough yet for a definitive statement about sui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ess with iBOBs at Jodre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B31B-C07A-45E3-9C94-DFA2DA0BC1E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Progress on Digital Interfac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BOBs and all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nathan Hargreaves/Richard Hughes-J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The iBOB System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transmi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w able to transfer data at line rate to a test PC over a 10 GE (CX-4)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eds A/D connection and interface (Onsala/Metsahov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eds to interface to VSI chip on station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network 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e also Richard’s t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jitsu switch or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ess with iBOBs at Jodre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F333-385A-488B-810D-2EF9ECE5D97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JBO Receiver: Statu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lnSpc>
                <a:spcPct val="80000"/>
              </a:lnSpc>
              <a:buNone/>
              <a:tabLst>
                <a:tab algn="l" pos="0"/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nt 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een packet FIFO implemented in the iBOB’s FPG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though packets are transmitted at 4Gbps they might ‘bunch up’ and arrive at line speed. The FIFO is intended to smooth them out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10Gb transceiver can run at 200MHz – enough to handle line speed, but the SRAM bandwidth is 167MHz for both read and write. Read out at 4Gbps consumes 64MHz of that. More resource than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flows from the iBOB to the Station Board defined (see next sl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readout from the SRAM synchronised to the correlator clock, when pr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correlator clock is not present, iBOB defaults to test mode using the internal c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SI chip will buffer and reclock data and route it to the Station Board inp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the new code in hardware using another iBOB to generate test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firmware for the VSI chip and either simulate or test on remote 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ess with iBOBs at Jodre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0F03-4A4C-4A4A-9C8E-3F0BAB5A831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381024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BO Receiver: Block Diagra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8600" y="914400"/>
            <a:ext cx="8686440" cy="5258880"/>
            <a:chOff x="228600" y="914400"/>
            <a:chExt cx="8686440" cy="5258880"/>
          </a:xfrm>
        </p:grpSpPr>
        <p:sp>
          <p:nvSpPr>
            <p:cNvPr id="151" name=""/>
            <p:cNvSpPr/>
            <p:nvPr/>
          </p:nvSpPr>
          <p:spPr>
            <a:xfrm>
              <a:off x="6515640" y="1143000"/>
              <a:ext cx="2160" cy="480096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01240" y="1143000"/>
              <a:ext cx="1080" cy="480096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3480" y="2057040"/>
              <a:ext cx="797400" cy="262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GB R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ellow box’ on t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mulink desig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GB/s CX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" y="3429000"/>
              <a:ext cx="343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45440" y="2057040"/>
              <a:ext cx="1483920" cy="262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F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k de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lds up to 16 packets in case short bursts arrive at line rat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99960" y="2057040"/>
              <a:ext cx="1257120" cy="262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RAM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-orders out of order packe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unts lost packe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ads data out to the correlator at a steady 4Gb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99960" y="5144760"/>
              <a:ext cx="125712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12k x 64 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512 packets = 9ms at 4Gbp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59440" y="2286000"/>
              <a:ext cx="1141200" cy="251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SI chip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ffer and reclock data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route it to the left and right polarisation station board (SB) input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30120" y="2743920"/>
              <a:ext cx="115920" cy="68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30120" y="3544920"/>
              <a:ext cx="111960" cy="68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74440" y="2742480"/>
              <a:ext cx="110520" cy="68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74440" y="3544920"/>
              <a:ext cx="109440" cy="68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99960" y="914400"/>
              <a:ext cx="1257120" cy="68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ock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ck 128MHz clock to correla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86400" y="2971440"/>
              <a:ext cx="1143360" cy="457560"/>
            </a:xfrm>
            <a:prstGeom prst="rightArrow">
              <a:avLst>
                <a:gd name="adj1" fmla="val 50000"/>
                <a:gd name="adj2" fmla="val 62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32 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486040" y="2858400"/>
              <a:ext cx="114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5486400" y="1371960"/>
              <a:ext cx="1080" cy="148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257080" y="1371960"/>
              <a:ext cx="22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70880" y="2971440"/>
              <a:ext cx="686160" cy="9165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64 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29360" y="2971440"/>
              <a:ext cx="686160" cy="9165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64 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86400" y="3772440"/>
              <a:ext cx="1143360" cy="457560"/>
            </a:xfrm>
            <a:prstGeom prst="rightArrow">
              <a:avLst>
                <a:gd name="adj1" fmla="val 50000"/>
                <a:gd name="adj2" fmla="val 62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32 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01240" y="2629440"/>
              <a:ext cx="10278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rrelator CL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72080" y="4686480"/>
              <a:ext cx="799560" cy="457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86480" y="4686480"/>
              <a:ext cx="798480" cy="4579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4280" y="5029920"/>
              <a:ext cx="686160" cy="8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Arial"/>
                </a:rPr>
                <a:t>2 x MDR80 ‘VSI’ cab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58360" y="5258880"/>
              <a:ext cx="137160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Station Boa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14520" y="1713960"/>
              <a:ext cx="7999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14800" y="1599480"/>
              <a:ext cx="0" cy="4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14520" y="171396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257480" y="1486080"/>
              <a:ext cx="1080" cy="57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257480" y="1486080"/>
              <a:ext cx="274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7400" y="1486080"/>
              <a:ext cx="2160" cy="57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57840" y="1257480"/>
              <a:ext cx="12571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MHz System Cloc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314520" y="1486080"/>
              <a:ext cx="57204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8MH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01000" y="2286000"/>
              <a:ext cx="914040" cy="686520"/>
            </a:xfrm>
            <a:prstGeom prst="rightArrow">
              <a:avLst>
                <a:gd name="adj1" fmla="val 50000"/>
                <a:gd name="adj2" fmla="val 332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to SB Inp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01000" y="3886920"/>
              <a:ext cx="914040" cy="686520"/>
            </a:xfrm>
            <a:prstGeom prst="rightArrow">
              <a:avLst>
                <a:gd name="adj1" fmla="val 50000"/>
                <a:gd name="adj2" fmla="val 332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to SB Inp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57400" y="5258880"/>
              <a:ext cx="686520" cy="5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iBO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ess with iBOBs at Jodre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45A3-8173-4ACC-9AE6-9CF9FC95E0F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Network Testing Device: Statu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lnSpc>
                <a:spcPct val="80000"/>
              </a:lnSpc>
              <a:buNone/>
              <a:tabLst>
                <a:tab algn="l" pos="0"/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nt 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 clock increased from 100MHz to 200MHz to allow line speed data flows at 10Gbps (J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ed jumper bank to select ethernet IP and MAC address (JH &amp; RH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registers, test modes and results can be accessed via ethernet control/response protocol (RH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 based software provides user interface to the ethernet control link (RH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ernet based control supersedes the TinySH command line and is seen as a prototype for control of iBOBs sending real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ly testing iBOB to iBOB transfers on be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 lost packets, out of order packets and duplicate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real time field correctly each second – currently it is fixed over a bu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over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ess with iBOBs at Jodre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C901-B11D-4D7F-9A16-8ECDA5AC99A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Content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utline of JBO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tocol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gress on iB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ndover to Ric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ess with iBOBs at Jodre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A5C9-2602-42B0-9D55-BBD3362A0CC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Outline of Work at JBO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4 Outreach work – Alastair Gunn - 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1 Connection of 4 e-MERLIN telescopes to JIVE (see under Fabr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2:  The 10 Gbps data link equipment available, awaiting cross connection in Manchester between academic and commercial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bric: Protocols  for high speed networks –Stephen Kershaw : PFLDNet 2008 Manchester 5-7 Mar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hep.man.ac.uk/PFLDnet2008/aboutManchester.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bric:  Input to e-MERLIN correlator at 4 G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ess with iBOBs at Jodre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148D-57BA-4A28-BB2D-B68DFF6195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E-MERLIN---e-VLBI system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84080" y="1143000"/>
            <a:ext cx="757404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ess with iBOBs at Jodre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43B6-A4DC-4F6A-BC01-FF6012FC271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Manpower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mon and Richard have left the team at JBO (though both still involved with EXP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rent contract for Jonathan expires Novem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.5 FTE in SA1 available for PDRA to work on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4 Outreach work completed, using 0.07 of 0.5  FTE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tion boards (VSI interfaces) expected summ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gest transferring 0.43 FTE from NA4 to Fab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we get a 6 month no cost extension we will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eep Jonathan on the project as a PDRA until the end of July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ow sufficient time for testing the input and output to the e-MERLIN correlator in eVLBI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eep on Stephen for a month or so this summer to help run the t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ess with iBOBs at Jodre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51E2-DAB4-4E85-A4CD-42F4B9063E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1483920"/>
            <a:ext cx="6913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700" spc="-1" strike="noStrike">
                <a:solidFill>
                  <a:srgbClr val="6d009d"/>
                </a:solidFill>
                <a:latin typeface="Times New Roman"/>
              </a:rPr>
              <a:t>January 2008</a:t>
            </a:r>
            <a:endParaRPr b="0" lang="en-US" sz="57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71640" y="2924280"/>
            <a:ext cx="7797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00000"/>
                </a:solidFill>
                <a:latin typeface="Arial"/>
              </a:rPr>
              <a:t>Network protocol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6920" cy="1947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71640" y="4448160"/>
            <a:ext cx="7797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d009d"/>
                </a:solidFill>
                <a:latin typeface="Arial"/>
              </a:rPr>
              <a:t>Stephen Kersh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6920" cy="1947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71640" y="1101600"/>
            <a:ext cx="5832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6d009d"/>
                </a:solidFill>
                <a:latin typeface="Arial"/>
              </a:rPr>
              <a:t>TC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4720" y="1844640"/>
            <a:ext cx="220176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CP suitable for transferring real-time da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data is lost TCP will slow  transmission and retransm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monstrate the feasibility of using TCP for real-time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384720" y="1258920"/>
            <a:ext cx="5351400" cy="2095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327480" y="3471840"/>
            <a:ext cx="5568840" cy="22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ess with iBOBs at Jodre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828C-5D5A-469F-A1C7-A4F25AC33B6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6920" cy="1947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44720" y="1844640"/>
            <a:ext cx="220176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CP using different algorithms for the window/throughput red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me variants allow more efficient use of bandwidth and appear more suitable for real-time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98920" y="1131840"/>
            <a:ext cx="5427720" cy="2454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606840" y="3749760"/>
            <a:ext cx="5411880" cy="2436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71640" y="1101600"/>
            <a:ext cx="5832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6d009d"/>
                </a:solidFill>
                <a:latin typeface="Arial"/>
              </a:rPr>
              <a:t>TCP varia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1840" y="8161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6320" y="342900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ess with iBOBs at Jodrel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695-3FE4-4836-BC44-883245C6C95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46440" y="3672000"/>
            <a:ext cx="4048200" cy="25621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66920" cy="1947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044720" y="1844640"/>
            <a:ext cx="220176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ders of magnitude improvements for speed of recovery with many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ders of magnitude reduction in buff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ident bursty behaviour – concerns for highly loaded packet switched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1101600"/>
            <a:ext cx="5832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6d009d"/>
                </a:solidFill>
                <a:latin typeface="Arial"/>
              </a:rPr>
              <a:t>TCP varia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172040" y="249120"/>
            <a:ext cx="4700520" cy="3390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702320" y="3440160"/>
            <a:ext cx="38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te spikes due to burst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ess with iBOBs at Jodre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6371-F351-46E8-A776-841AD0E4D27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Ralph Spencer</cp:lastModifiedBy>
  <dcterms:modified xsi:type="dcterms:W3CDTF">2008-01-29T11:57:49Z</dcterms:modified>
  <cp:revision>71</cp:revision>
  <dc:subject/>
  <dc:title>Slide 1</dc:title>
</cp:coreProperties>
</file>